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A9C1-BC9D-4407-95DF-C00AE732E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1EAE-1F3E-49DD-A7DC-144C7206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A3DD-B993-4242-98F9-EE3783F27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2F45-9B4F-4CC4-8B0A-56710D036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F672-A233-4849-B01A-1E5292B9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AD7B-504D-4158-A1F1-471511FE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B407-CE81-4827-86D5-54A3961D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76C9-462D-4D70-AA0D-7D08DA233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6A09-EDEA-4B12-AC64-4993F597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9E73-4B02-492A-8B70-DDE56DC2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B2CF-210A-4E07-9203-C9BC58E1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752A-E0F5-4D0D-A0F7-8BFE220E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DF83-8124-464C-A695-DC9DCC092D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760" y="361800"/>
            <a:ext cx="8731440" cy="8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 Light"/>
              </a:rPr>
              <a:t>3.</a:t>
            </a:r>
            <a:r>
              <a:rPr b="1" i="1" lang="el-GR" sz="3600" spc="-1" strike="noStrike">
                <a:solidFill>
                  <a:srgbClr val="000000"/>
                </a:solidFill>
                <a:latin typeface="Calibri Light"/>
              </a:rPr>
              <a:t>Περιποίηση του σώματος: (σελ.63</a:t>
            </a:r>
            <a:r>
              <a:rPr b="1" i="1" lang="en-US" sz="3600" spc="-1" strike="noStrike">
                <a:solidFill>
                  <a:srgbClr val="000000"/>
                </a:solidFill>
                <a:latin typeface="Calibri Light"/>
              </a:rPr>
              <a:t>-64</a:t>
            </a:r>
            <a:r>
              <a:rPr b="1" i="1" lang="el-GR" sz="3600" spc="-1" strike="noStrike">
                <a:solidFill>
                  <a:srgbClr val="000000"/>
                </a:solidFill>
                <a:latin typeface="Calibri Light"/>
              </a:rPr>
              <a:t>) 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3840" y="1184400"/>
            <a:ext cx="68040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Αποφεύγεται η πολύωρη έκθεση στον </a:t>
            </a:r>
            <a:r>
              <a:rPr b="1" i="1" lang="el-GR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ήλιο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(ο ήλιος γερνά το δέρμα ΌΧΙ από </a:t>
            </a:r>
            <a:r>
              <a:rPr b="1" lang="el-G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:00 –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</a:t>
            </a:r>
            <a:r>
              <a:rPr b="1" lang="el-G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00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Όταν ένα παιδί έχει </a:t>
            </a:r>
            <a:r>
              <a:rPr b="1" i="1" lang="el-GR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ακμή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να επισκέπτεται τον δερματολόγ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Να πλένονται </a:t>
            </a:r>
            <a:r>
              <a:rPr b="1" i="1" lang="el-GR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τα χέρια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ριν από διάφορες ενασχολήσεις (μαγειρική, στρώσιμο τραπεζιού) και να κόβονται </a:t>
            </a:r>
            <a:r>
              <a:rPr b="1" i="1" lang="el-GR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τα νύχια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πό τα χέρια και τα πόδια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Τρεφόμαστε υγιεινά (φρούτα – λαχανικά – όχι λίπη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 υγιεινή διατροφή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Να έχουμε ατομική </a:t>
            </a:r>
            <a:r>
              <a:rPr b="1" i="1" lang="el-GR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πετσέτα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r>
              <a:rPr b="1" i="1" lang="el-GR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χτένα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i="1" lang="el-GR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οδοντόβουρτσ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Να φοράμε καθαρές </a:t>
            </a:r>
            <a:r>
              <a:rPr b="1" i="1" lang="el-GR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κάλτσες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άνετα και καλής ποιότητας </a:t>
            </a:r>
            <a:r>
              <a:rPr b="1" i="1" lang="el-GR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παπούτσι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Τακτική </a:t>
            </a:r>
            <a:r>
              <a:rPr b="1" i="1" lang="el-GR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άσκηση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και άφθονο </a:t>
            </a:r>
            <a:r>
              <a:rPr b="1" i="1" lang="el-GR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νερ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6427800" y="4614840"/>
            <a:ext cx="2612880" cy="2243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21T08:11:08Z</dcterms:created>
  <dc:creator>Era</dc:creator>
  <dc:description/>
  <dc:language>en-US</dc:language>
  <cp:lastModifiedBy>ΑΛΕΞΑΝΔΡΟΣ</cp:lastModifiedBy>
  <dcterms:modified xsi:type="dcterms:W3CDTF">2019-02-07T19:46:20Z</dcterms:modified>
  <cp:revision>57</cp:revision>
  <dc:subject/>
  <dc:title>PowerPoint Presentation</dc:title>
</cp:coreProperties>
</file>